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6.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10.jpeg" ContentType="image/jpeg"/>
  <Override PartName="/ppt/media/image8.jpeg" ContentType="image/jpeg"/>
  <Override PartName="/ppt/media/image16.png" ContentType="image/png"/>
  <Override PartName="/ppt/media/image14.jpeg" ContentType="image/jpeg"/>
  <Override PartName="/ppt/media/image19.gif" ContentType="image/gif"/>
  <Override PartName="/ppt/media/image1.png" ContentType="image/png"/>
  <Override PartName="/ppt/media/image3.jpeg" ContentType="image/jpeg"/>
  <Override PartName="/ppt/media/image15.png" ContentType="image/png"/>
  <Override PartName="/ppt/media/image5.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move the slide</a:t>
            </a:r>
            <a:endParaRPr b="0" lang="en-US" sz="4600" spc="-1" strike="noStrike">
              <a:solidFill>
                <a:srgbClr val="ffffff"/>
              </a:solidFill>
              <a:latin typeface="Century Gothic"/>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9ABA-AA92-4648-9F87-164CE2EF51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 and crescent are the best know symbols for Islam, however it is sometimes controversial in the Muslim world. This is because it was originally a polytheistic icon that was later adopted under the Ottoman Empire, which was predominantly Muslim. Since there aren’t many symbols of Islam, the star and crescent are most often associated with it. Green is a colour that can be seen throughout mosques and also on the Saudi Arabian flag. It is said that Muhammad’s favourite colour was green, and that he also wore green cloaks. But it also can be interpreted as symbolizing vegetation, life, and paradise. Words or phrases can also be used as symbolizing Islam, such as Allah(pictured above). and Shahada(on the Saudi Arabian Flag).</a:t>
            </a:r>
            <a:endParaRPr b="0" lang="en-US"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FFB8-BE6E-46A6-BD7F-49C1337CF00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in Islam are considered equal to men, although they have different roles. This is shown in the differences in the Judeo-Christian story of Adam and Eve, and the Islamic interpretation.  The Judeo-Christian belief is that Eve was the one was tempted, ate the fruit, and also gave the fruit to Adam. But this is not true in Islam. The Qur’an, places equal blame on both Adam and Eve for their mistake. And it is not said that Eve tempted Adam to eat from the tree or even that she had eaten before him. Both Adam and Eve committed a sin and then asked God for forgiveness and He forgave them both. </a:t>
            </a:r>
            <a:br>
              <a:rPr sz="1200"/>
            </a:b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60BF-8D4F-45C5-A877-5B26262CFBE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lamic religion had a great impact on art. Arabesques are elaborate geometric patterns that symbolize the infinite, and therefore the nature of creation of God. Calligraphy is often found with arabesques and is used to represent God through his word; mainly verses from the Qur’an. Another form of art that developed out of Islam is Prayer Mats. They are used while prostrating to keep the worshipper clean and therefore have a high symbolic value. A common image on the prayer mat is a mosque. Islam had a very large impact on the language of Arabic too. Since Muslims believe that the only true way to comprehend the Qur’an is too read it in the language it was revealed, it increased the number of people who were able to understand it. Arabic than became the language of literature, science, commerce, and social intercourse. Islam also helped to preserve the Arabic language since people were always reading the Qur’an. Islam also encouraged the use of Arabic script in other languages such as Urdu, Pashto, Swahili, and Panjabi, among many others.</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D4D4-76BE-4294-809B-54A003160A8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Wingdings 3"/>
              <a:ea typeface="Wingdings 3"/>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3AD1-4328-4DB5-85D6-CB54BE1339B8}"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slam there are 2 main branches, Sunni and Shia. They split after Muhammed’s death because they disagreed over who was to become the first Caliph. It was decided by the elders in the community that Abu Bakr was to take this role. Shia Muslims, however, don’t recognize the authority of elected Muslim leaders, choosing instead to follow a line of Imams which they believe have been appointed by Muhammad or God Himself. Therefore Shia Muslims believe that the Imams are sinless in nature, while Sunni Muslims believe there is no basis in Islam for a hereditary privileged class of spiritual leaders. Under each Sunni and Shia there are more branches that all have slightly different ways of interpreting the Qur’an and Sharia. The four branches under Sunni are called Madh’habs, they are each a different school of law in Islam. Imams are important because they give a weekly sermon to Muslims on Friday during the noon prayer at a mosque. </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0AB5-39B8-4957-8CDC-2B9541354AF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lamic belief is that God had previously revealed Himself to the earlier prophets of the Jews and Christians, such as Abraham, Moses, and Jesus. And therefore Muslims accept the teachings of both the Jewish Torah and the Christian Gospels. Ishmael is considered a prophet in the Qur’an, and also an ancestor of Northern Arabian people. Also he and his father built Kaaba, the most important house of worship in Islam. They believe that Islam is the perfection of the religion revealed to Muhammed. Muslims believe that Muhammad is the last prophet God sent to mankind. This belief explains the extreme animosity toward Bahais, who follow a prophet from the nineteenth century. Muhammed was born in the city of Mecca and was orphaned at an early age. He worked mostly as a merchant, and a shepherd. Unhappy with his life in Mecca, he moved to a cave in the surrounding mountains for meditation and reflection. In the cave, at age 40, in the month of Ramadan, he received his first revelation from God. Three years after this event Muhammad started to preach these revelations to the public.</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D13A-C9D8-4093-AB71-3E31D22AAB5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ada is the declaration of belief in the oneness of God and the acceptance of Muhammad as God’s prophet, by saying “There is no god but God, and Muhammed is the messenger of God.” This phrase is seen on the Saudi Arabian flag. Salat is the daily prayer of Islam, 5 times a day. Zakat is the giving of alms to other needy Muslims. It is obligatory for those able to to give 2.5% of ones wealth to the destitute, the working poor, stranded travelers, and others in need of assistance. Siyam is during the holy month of Ramadan where Muslims must fast from sunrise to sunset. They must try to refrain from cursing, arguing, fighting, greed, envy, lustful thoughts, and gossip during this time. The purpose of fasting is to allow Muslims to be nearer to God. It is to express their gratitude and dependence on him, to atone for their sins, and to remind them of the needy. If you are sick, nursing, or traveling, you are exempt from fasting, however you must make it up before the next month of Ramadan. Finally, Hajj is a pilgrimage during the last month of the Islamic calendar to the holy city of Mecca. Everyone who is able to must make the trip at least once in their lifetime if they can afford it. There are some rituals that go along with Hajj including walking 7 times around Kaaba, touching the black stone, traveling seven times from Mount al-Safa to al-Mount Marwah, and symbolically stoning the devil in Mina. These all symbolically represent the lives of Abraham, and his wife Hagar.</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2F64-DB7B-41C6-80DF-C7E09E31DFB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jr is near dawn, dhuhr is just after the sun’s noon, asr is in the afternoon, maghrib is just after sunset, and isha is around nightfall. The first prayer is to be done before sunrise.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26AE-A109-4F15-B74B-D536C097AC2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month of Ramadan, where Muslims fast, a three day festival called Eid al-Fitr is held. Muslims gather and pray during the festival and also celebrate with friends. Eid al-Adha is celebrated to commemorate the willingness of Abraham to sacrifice his son Ishmael, but was instead able to sacrifice a ram. Muslims commemorate by sacrificing a sheep camel or cow, and giving 1/3 to charity, 1/3 to neighbours and relatives, and keeping 1/3. They also celebrate with a morning prayer at their local mosque, and also visit with family and friends. It marks the end of the pilgrimage to Mecca. A common greeting for these two festivals is Eid Mubarak, which is translated into “may you enjoy a blessed festival”.</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1E4F-D0FF-4977-A5AD-2D6089DF610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ri’a is the Islamic law that guides all aspects of life. It was formed from the Qur’an and Hadith hundreds of years after Muhammad’s death. Shari’a influences the legal codes in many Muslim countries. Marriage and divorce are aspects of Shari’a, but it also includes criminal law, which is very controversial because of the punishments called hadd. Most of the countries that use Shari’a don’t implement the classic punishments, but vigilante justice still takes place.</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9A05-86F9-4A17-8438-785B1505F21D}"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r’an is the book of Islamic revelation, it means ‘the recitation’, in Arabic. It was revealed to the prophet Muhammed from 610 C.E. to 632 C.E. through the archangel Gabriel. Muhammed than recited it to his followers and to scribes who wrote down the verses during his lifetime. Within 20 years of Muhammed’s death, the Qur’an was formed into one book by the first Caliph, Abu Bakr, and than Uthman, the third Caliph standardized it and made several copies. Most scholars and historians accept the present day Qur'an is the original version compiled by Abu Bakr shortly after Muhammad's death. The Qur’an serves as record and a guide for the Muslim community by focusing on teaching the importance of the unity of God. It also has stories about the previous prophets, such as Abraham, Noah, Moses and Jesus. The Hadith is a number of historical books which contain reports of the sayings, actions and example of Muhammad, in which he showed his followers how to put the teachings of the Qur’an into practice.</a:t>
            </a:r>
            <a:br>
              <a:rPr sz="1200"/>
            </a:b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CB1E-37BB-406A-9444-A8AF39211D3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314B0-FCC4-4122-904F-C11F0D37C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BC13A-CAFB-441B-A1B5-E23170874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1217F-23F3-4546-B70B-03C0C5F31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D244E-093D-4C68-8EDE-FCE142FD2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0808D-A21F-491E-BB96-6C490AD5C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826F5-A731-4737-835C-41AEB2BF0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CBF4E-CFD3-4AD0-B9C4-89438EB50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55ADB-6C33-4CDC-9F6A-65293952A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28D35-CF50-4025-8DE8-CD37A910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8D2D5-D6FA-4CC4-9C4C-2F4E87E17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836B7-EDE7-45FE-B182-0EC3C0F28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E791-6D12-48A4-9B54-5CE080FFC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AA2EF-5E36-48F6-9A13-48FAADCF1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AC6D-10D8-4337-B676-6D7471FA5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3E4AF-428A-4DE9-9BF5-3FCAD1E27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D5ACA-680D-40C1-8DED-A06B7A7EF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1BF90-E7B5-4D46-A6BB-C0814AF31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1FFD15-2D7B-4CBF-8FE5-EBB4301883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64359-E1BD-4EB9-85E1-1B50D708C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FA0FA2-54D6-4E45-9CF1-28616ECBB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73D185-4AA6-4C0D-87D3-1F8AF14BF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596E6-F9CD-46E2-BF2A-BE495C73F3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AFE3-3AA4-4C9B-9B32-D9456B34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7B3A93-37E3-4482-B6E2-940E421E5F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A40F3-8943-4B22-8FAF-9C74E0E78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94CE9-3D5B-45B4-91D6-7EBB9B34F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5EE7C4-5EA2-43C5-9A58-13C4D668F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955C3-A600-4717-8F86-440A72810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8A6B1D-6EF5-40A8-8BD4-FCFEC2370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72AB06-198E-40C3-A385-1074B88501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DC6191-6811-4594-8D81-4FA09D4BA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F97CD-CD87-4089-A80A-9E8395A45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BDFDA-3C10-44CC-AE9D-07CCB11B91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8A3E6-7E21-4768-AE3E-4472A72D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167654-F25C-4EA2-AAB8-1B838E606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10855-9099-466F-8927-EC65D2C8EF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22993F-4B9B-4F4C-AF51-5C1B849D57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368AA-1D04-44B1-995F-9DC094222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C5D14-00E9-49E6-BA95-4DBB9B5C3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4993C-BB8D-443C-9D09-A02530731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88367-9379-47C7-A97A-A63E40B028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2C0AA6-8E31-4D2C-8760-BAEC8F2D73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0BF36C-5888-4379-A277-8A60FFE246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0AF978-3F07-448D-B45A-B98CCF6955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0955-ED05-4741-8F6B-E66DDDAD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B9C11-4F1B-4200-8951-0C90EA7E9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D5F35-AE50-469B-A545-E9B3E2435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665D5-44DD-4332-B463-3F8A764F1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578486-0B71-4F46-904E-3EFF1973DF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13554-38F6-4553-AB78-DC04DE6371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A7A49-4940-4E8A-A3ED-0B6B7FF22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5AAC8C-2145-4C64-A29E-686E1A5AE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D0CE3-58AC-477E-9511-EC36268C31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2E2A6C-C424-49C1-A6AF-E8BBC79046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1382C3-D88C-458E-81E1-6C3AC81460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7233-2EE5-44CB-8C17-AA00D1E4A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9F7C08-A5C2-42ED-88E2-61FB9B629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A8B67B-3CA7-4A2F-A11A-199926E31B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10B47-FF59-42E6-99B2-9A595A110F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13CF7-D81E-4ED8-80A0-3C2168278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73FD42-9AAA-4FA4-94B2-D922BE7D7C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EBDC4-314A-4858-9512-050A44CE92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D8D8D-E931-44B7-B0E1-F371E42BA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F93CE9-0ED9-4F03-A5E5-2EDE629052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5F647-E205-4123-A488-3C39DCE5D6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94302-7902-43EC-A824-A4270BC28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B81B-78A8-4132-BC91-BA67BC910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EF44B-672F-4F6B-972A-861941A30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4A5961-7CC6-4A1D-AFB6-5989864829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DB0C1C-2195-4CF0-AE06-76376B0DE9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8AA8-DB42-4807-8E70-646D012D9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entury Gothic"/>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90E9-90AA-4A86-BD0F-868A51E5D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05DA-3068-4E94-A606-F60393A887BC}"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d53"/>
            </a:gs>
            <a:gs pos="100000">
              <a:srgbClr val="828ba3"/>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1874-2E26-4887-B970-899CDC0D0DD7}"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d53"/>
            </a:gs>
            <a:gs pos="100000">
              <a:srgbClr val="828ba3"/>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A329-38B2-458D-A625-76DD3FE78F08}"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8D2D-2922-4203-8929-B38F6F8AE260}"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3E8D-8B40-46DB-BA5E-2C46BC4C60B6}"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a637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lick to edit the title text format</a:t>
            </a:r>
            <a:endParaRPr b="0" lang="en-US" sz="4600" spc="-1" strike="noStrike">
              <a:solidFill>
                <a:srgbClr val="ffffff"/>
              </a:solidFill>
              <a:latin typeface="Century Gothic"/>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722160" indent="-272880">
              <a:spcBef>
                <a:spcPts val="751"/>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004760" indent="-255600">
              <a:spcBef>
                <a:spcPts val="751"/>
              </a:spcBef>
              <a:buClr>
                <a:srgbClr val="60b5cc"/>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279440" indent="-236520">
              <a:spcBef>
                <a:spcPts val="751"/>
              </a:spcBef>
              <a:buClr>
                <a:srgbClr val="e66c7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488960" indent="-182520">
              <a:spcBef>
                <a:spcPts val="751"/>
              </a:spcBef>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9b9b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1386-0136-4B6E-A8AE-CCA52595D17D}" type="slidenum">
              <a:rPr b="0" lang="en-CA" sz="1000" spc="-1" strike="noStrike">
                <a:solidFill>
                  <a:srgbClr val="9b9b9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420840" y="3090960"/>
            <a:ext cx="7046640" cy="255420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arrington"/>
                <a:ea typeface="Raavi"/>
              </a:rPr>
              <a:t>Amy Zimmerman</a:t>
            </a:r>
            <a:endParaRPr b="0" lang="en-US" sz="24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http://upload.wikimedia.org/wikipedia/commons/8/8d/Madhhab_Map2.png"/>
          <p:cNvPicPr/>
          <p:nvPr/>
        </p:nvPicPr>
        <p:blipFill>
          <a:blip r:embed="rId1"/>
          <a:stretch/>
        </p:blipFill>
        <p:spPr>
          <a:xfrm>
            <a:off x="0" y="1197000"/>
            <a:ext cx="9144000" cy="443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6" descr="MuslimVennDiagram"/>
          <p:cNvPicPr/>
          <p:nvPr/>
        </p:nvPicPr>
        <p:blipFill>
          <a:blip r:embed="rId1"/>
          <a:stretch/>
        </p:blipFill>
        <p:spPr>
          <a:xfrm>
            <a:off x="871560" y="333360"/>
            <a:ext cx="7400880" cy="609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Symbols</a:t>
            </a:r>
            <a:endParaRPr b="0" lang="en-US" sz="4600" spc="-1" strike="noStrike">
              <a:solidFill>
                <a:srgbClr val="ffffff"/>
              </a:solidFill>
              <a:latin typeface="Century Gothic"/>
            </a:endParaRPr>
          </a:p>
        </p:txBody>
      </p:sp>
      <p:sp>
        <p:nvSpPr>
          <p:cNvPr id="301" name=""/>
          <p:cNvSpPr txBox="1"/>
          <p:nvPr/>
        </p:nvSpPr>
        <p:spPr>
          <a:xfrm>
            <a:off x="457200" y="1600200"/>
            <a:ext cx="4330800" cy="28368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r and Crescent</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reen</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llah and Shahada</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302" name="Picture 4" descr="File:Star and Crescent.svg"/>
          <p:cNvPicPr/>
          <p:nvPr/>
        </p:nvPicPr>
        <p:blipFill>
          <a:blip r:embed="rId1"/>
          <a:stretch/>
        </p:blipFill>
        <p:spPr>
          <a:xfrm>
            <a:off x="4427640" y="836640"/>
            <a:ext cx="2695320" cy="2695680"/>
          </a:xfrm>
          <a:prstGeom prst="rect">
            <a:avLst/>
          </a:prstGeom>
          <a:ln w="0">
            <a:noFill/>
          </a:ln>
        </p:spPr>
      </p:pic>
      <p:pic>
        <p:nvPicPr>
          <p:cNvPr id="303" name="Picture 6" descr="http://www.turntoislam.com/images/tti/misc/Allah.gif"/>
          <p:cNvPicPr/>
          <p:nvPr/>
        </p:nvPicPr>
        <p:blipFill>
          <a:blip r:embed="rId2"/>
          <a:stretch/>
        </p:blipFill>
        <p:spPr>
          <a:xfrm>
            <a:off x="5219640" y="3213000"/>
            <a:ext cx="3240000" cy="3240360"/>
          </a:xfrm>
          <a:prstGeom prst="rect">
            <a:avLst/>
          </a:prstGeom>
          <a:ln w="0">
            <a:noFill/>
          </a:ln>
        </p:spPr>
      </p:pic>
      <p:pic>
        <p:nvPicPr>
          <p:cNvPr id="304" name="Picture 10" descr="http://www.religionfacts.com/islam/images/practices/shahada.jpg"/>
          <p:cNvPicPr/>
          <p:nvPr/>
        </p:nvPicPr>
        <p:blipFill>
          <a:blip r:embed="rId3"/>
          <a:stretch/>
        </p:blipFill>
        <p:spPr>
          <a:xfrm>
            <a:off x="900000" y="4797360"/>
            <a:ext cx="3632400" cy="136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Role of Women</a:t>
            </a:r>
            <a:endParaRPr b="0" lang="en-US" sz="4600" spc="-1" strike="noStrike">
              <a:solidFill>
                <a:srgbClr val="ffffff"/>
              </a:solidFill>
              <a:latin typeface="Century Gothic"/>
            </a:endParaRPr>
          </a:p>
        </p:txBody>
      </p:sp>
      <p:sp>
        <p:nvSpPr>
          <p:cNvPr id="306" name=""/>
          <p:cNvSpPr txBox="1"/>
          <p:nvPr/>
        </p:nvSpPr>
        <p:spPr>
          <a:xfrm>
            <a:off x="-900360" y="7966080"/>
            <a:ext cx="746748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sultan.org/</a:t>
            </a:r>
            <a:endParaRPr b="0" lang="en-US" sz="3000" spc="-1" strike="noStrike">
              <a:solidFill>
                <a:srgbClr val="ffffff"/>
              </a:solidFill>
              <a:latin typeface="Century Gothic"/>
            </a:endParaRPr>
          </a:p>
        </p:txBody>
      </p:sp>
      <p:sp>
        <p:nvSpPr>
          <p:cNvPr id="307" name="Content Placeholder 2"/>
          <p:cNvSpPr/>
          <p:nvPr/>
        </p:nvSpPr>
        <p:spPr>
          <a:xfrm>
            <a:off x="0" y="1268280"/>
            <a:ext cx="5940360" cy="352908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I find more bitter than death the woman who is a snare, whose heart is a trap and whose hands are chains. The man who pleases God will escape her, but the sinner she will ensnare....while I was still searching but not finding, I found one upright man among a thousand but not one upright woman among them all" (Ecclesiastes 7:26-28).</a:t>
            </a:r>
            <a:endParaRPr b="0" lang="en-US" sz="1800" spc="-1" strike="noStrike">
              <a:solidFill>
                <a:srgbClr val="ffffff"/>
              </a:solidFill>
              <a:latin typeface="Tahoma"/>
            </a:endParaRPr>
          </a:p>
        </p:txBody>
      </p:sp>
      <p:sp>
        <p:nvSpPr>
          <p:cNvPr id="308" name="Content Placeholder 2"/>
          <p:cNvSpPr/>
          <p:nvPr/>
        </p:nvSpPr>
        <p:spPr>
          <a:xfrm>
            <a:off x="5796000" y="1268280"/>
            <a:ext cx="3348000" cy="201636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woman should learn in quietness and full submission. I don't permit a woman to teach or to have authority over a man; she must be silent. For Adam was formed first, then Eve. And Adam was not the one deceived; it was the woman who was deceived and became a sinner" (I Timothy 2:11-14).</a:t>
            </a:r>
            <a:r>
              <a:rPr b="0" lang="en-US" sz="1800" spc="-1" strike="noStrike">
                <a:solidFill>
                  <a:srgbClr val="ffffff"/>
                </a:solidFill>
                <a:latin typeface="Tahoma"/>
              </a:rPr>
              <a:t> </a:t>
            </a:r>
            <a:endParaRPr b="0" lang="en-US" sz="1800" spc="-1" strike="noStrike">
              <a:solidFill>
                <a:srgbClr val="ffffff"/>
              </a:solidFill>
              <a:latin typeface="Tahoma"/>
            </a:endParaRPr>
          </a:p>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Content Placeholder 2"/>
          <p:cNvSpPr/>
          <p:nvPr/>
        </p:nvSpPr>
        <p:spPr>
          <a:xfrm>
            <a:off x="0" y="3789360"/>
            <a:ext cx="6227640" cy="4525920"/>
          </a:xfrm>
          <a:prstGeom prst="rect">
            <a:avLst/>
          </a:prstGeom>
          <a:noFill/>
          <a:ln w="0">
            <a:noFill/>
          </a:ln>
        </p:spPr>
        <p:style>
          <a:lnRef idx="0"/>
          <a:fillRef idx="0"/>
          <a:effectRef idx="0"/>
          <a:fontRef idx="minor"/>
        </p:style>
        <p:txBody>
          <a:bodyPr lIns="90000" rIns="90000" tIns="46800" bIns="46800" anchor="t">
            <a:noAutofit/>
          </a:bodyPr>
          <a:p>
            <a:pPr marL="419040" indent="-38268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For Muslim men and women, for believing men and women, for devout men and women, for true men and women, for men and women who are patient, for men and women who humble themselves, for men and women who give in charity, for men and women who fast, for men and women who guard their chastity, and for men and women who engage much in Allah's praise-- For them all has Allah prepared forgiveness and great reward" (33:35).</a:t>
            </a:r>
            <a:r>
              <a:rPr b="0" lang="en-US" sz="1800" spc="-1" strike="noStrike">
                <a:solidFill>
                  <a:srgbClr val="ffffff"/>
                </a:solidFill>
                <a:latin typeface="Tahoma"/>
              </a:rPr>
              <a:t> </a:t>
            </a:r>
            <a:endParaRPr b="0" lang="en-US" sz="1800" spc="-1" strike="noStrike">
              <a:solidFill>
                <a:srgbClr val="ffffff"/>
              </a:solidFill>
              <a:latin typeface="Tahoma"/>
            </a:endParaRPr>
          </a:p>
          <a:p>
            <a:pPr marL="419040" indent="-382680">
              <a:spcBef>
                <a:spcPts val="499"/>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19040" indent="-382680">
              <a:spcBef>
                <a:spcPts val="499"/>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Impacts</a:t>
            </a:r>
            <a:endParaRPr b="0" lang="en-US" sz="4600" spc="-1" strike="noStrike">
              <a:solidFill>
                <a:srgbClr val="ffffff"/>
              </a:solidFill>
              <a:latin typeface="Century Gothic"/>
            </a:endParaRPr>
          </a:p>
        </p:txBody>
      </p:sp>
      <p:sp>
        <p:nvSpPr>
          <p:cNvPr id="311" name=""/>
          <p:cNvSpPr txBox="1"/>
          <p:nvPr/>
        </p:nvSpPr>
        <p:spPr>
          <a:xfrm>
            <a:off x="468360" y="1484280"/>
            <a:ext cx="4464000" cy="21607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lligraphy and Arabesques</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rayer Mat</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ading and Writing</a:t>
            </a:r>
            <a:endParaRPr b="0" lang="en-US" sz="3000" spc="-1" strike="noStrike">
              <a:solidFill>
                <a:srgbClr val="ffffff"/>
              </a:solidFill>
              <a:latin typeface="Century Gothic"/>
            </a:endParaRPr>
          </a:p>
        </p:txBody>
      </p:sp>
      <p:pic>
        <p:nvPicPr>
          <p:cNvPr id="312" name="Picture 5" descr="http://images.cdn.fotopedia.com/12s687mhrt7jn-EZnp-vTPva8-image.jpg"/>
          <p:cNvPicPr/>
          <p:nvPr/>
        </p:nvPicPr>
        <p:blipFill>
          <a:blip r:embed="rId1"/>
          <a:stretch/>
        </p:blipFill>
        <p:spPr>
          <a:xfrm>
            <a:off x="684360" y="3789360"/>
            <a:ext cx="3403440" cy="2879640"/>
          </a:xfrm>
          <a:prstGeom prst="rect">
            <a:avLst/>
          </a:prstGeom>
          <a:ln w="0">
            <a:noFill/>
          </a:ln>
        </p:spPr>
      </p:pic>
      <p:pic>
        <p:nvPicPr>
          <p:cNvPr id="313" name="Picture 7" descr="http://img.diytrade.com/cdimg/163597/2941321/0/1163407533/Muslim_Prayer_Mat.jpg"/>
          <p:cNvPicPr/>
          <p:nvPr/>
        </p:nvPicPr>
        <p:blipFill>
          <a:blip r:embed="rId2"/>
          <a:srcRect l="9609" t="0" r="10306" b="0"/>
          <a:stretch/>
        </p:blipFill>
        <p:spPr>
          <a:xfrm>
            <a:off x="4932360" y="476280"/>
            <a:ext cx="3600360" cy="600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Bibliography</a:t>
            </a:r>
            <a:endParaRPr b="0" lang="en-US" sz="4600" spc="-1" strike="noStrike">
              <a:solidFill>
                <a:srgbClr val="ffffff"/>
              </a:solidFill>
              <a:latin typeface="Century Gothic"/>
            </a:endParaRPr>
          </a:p>
        </p:txBody>
      </p:sp>
      <p:sp>
        <p:nvSpPr>
          <p:cNvPr id="315" name=""/>
          <p:cNvSpPr txBox="1"/>
          <p:nvPr/>
        </p:nvSpPr>
        <p:spPr>
          <a:xfrm>
            <a:off x="468000" y="1341360"/>
            <a:ext cx="7467480" cy="4525920"/>
          </a:xfrm>
          <a:prstGeom prst="rect">
            <a:avLst/>
          </a:prstGeom>
          <a:noFill/>
          <a:ln w="0">
            <a:noFill/>
          </a:ln>
        </p:spPr>
        <p:txBody>
          <a:bodyPr anchor="t">
            <a:normAutofit fontScale="89000"/>
          </a:bodyPr>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Quran." In </a:t>
            </a:r>
            <a:r>
              <a:rPr b="0" i="1" lang="en-US" sz="1600" spc="-1" strike="noStrike">
                <a:solidFill>
                  <a:srgbClr val="ffffff"/>
                </a:solidFill>
                <a:latin typeface="Century Gothic"/>
              </a:rPr>
              <a:t>The Oxford Dictionary of Islam</a:t>
            </a:r>
            <a:r>
              <a:rPr b="0" lang="en-US" sz="1600" spc="-1" strike="noStrike">
                <a:solidFill>
                  <a:srgbClr val="ffffff"/>
                </a:solidFill>
                <a:latin typeface="Century Gothic"/>
              </a:rPr>
              <a:t>. Ed. John L. Esposito. </a:t>
            </a:r>
            <a:r>
              <a:rPr b="0" i="1" lang="en-US" sz="1600" spc="-1" strike="noStrike">
                <a:solidFill>
                  <a:srgbClr val="ffffff"/>
                </a:solidFill>
                <a:latin typeface="Century Gothic"/>
              </a:rPr>
              <a:t>Oxford Islamic Studies Online</a:t>
            </a:r>
            <a:r>
              <a:rPr b="0" lang="en-US" sz="1600" spc="-1" strike="noStrike">
                <a:solidFill>
                  <a:srgbClr val="ffffff"/>
                </a:solidFill>
                <a:latin typeface="Century Gothic"/>
              </a:rPr>
              <a:t>. 20-Oct-2010. &lt;http://www.oxfordislamicstudies.com/article/opr/t125/e1945&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Religion: Islam." </a:t>
            </a:r>
            <a:r>
              <a:rPr b="0" i="1" lang="en-US" sz="1600" spc="-1" strike="noStrike">
                <a:solidFill>
                  <a:srgbClr val="ffffff"/>
                </a:solidFill>
                <a:latin typeface="Century Gothic"/>
              </a:rPr>
              <a:t>BBC</a:t>
            </a:r>
            <a:r>
              <a:rPr b="0" lang="en-US" sz="1600" spc="-1" strike="noStrike">
                <a:solidFill>
                  <a:srgbClr val="ffffff"/>
                </a:solidFill>
                <a:latin typeface="Century Gothic"/>
              </a:rPr>
              <a:t>. Web. 20 Oct. 2010. &lt;http://www.bbc.co.uk/religion/religions/isla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The Hadith." </a:t>
            </a:r>
            <a:r>
              <a:rPr b="0" i="1" lang="en-US" sz="1600" spc="-1" strike="noStrike">
                <a:solidFill>
                  <a:srgbClr val="ffffff"/>
                </a:solidFill>
                <a:latin typeface="Century Gothic"/>
              </a:rPr>
              <a:t>The Lahore Ahmadiyya Movement in Islam</a:t>
            </a:r>
            <a:r>
              <a:rPr b="0" lang="en-US" sz="1600" spc="-1" strike="noStrike">
                <a:solidFill>
                  <a:srgbClr val="ffffff"/>
                </a:solidFill>
                <a:latin typeface="Century Gothic"/>
              </a:rPr>
              <a:t>. Web. 21 Oct. 2010. &lt;http://www.muslim.org/islam/int-is6.ht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Islamic Art." </a:t>
            </a:r>
            <a:r>
              <a:rPr b="0" i="1" lang="en-US" sz="1600" spc="-1" strike="noStrike">
                <a:solidFill>
                  <a:srgbClr val="ffffff"/>
                </a:solidFill>
                <a:latin typeface="Century Gothic"/>
              </a:rPr>
              <a:t>Oil Paintings Reproduction - Canvas Oil Painting Reproductions For Sale</a:t>
            </a:r>
            <a:r>
              <a:rPr b="0" lang="en-US" sz="1600" spc="-1" strike="noStrike">
                <a:solidFill>
                  <a:srgbClr val="ffffff"/>
                </a:solidFill>
                <a:latin typeface="Century Gothic"/>
              </a:rPr>
              <a:t>. Web. 21 Oct. 2010. &lt;http://www.huntfor.com/arthistory/medieval/islamic.htm&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PBS - Islam: Empire of Faith." </a:t>
            </a:r>
            <a:r>
              <a:rPr b="0" i="1" lang="en-US" sz="1600" spc="-1" strike="noStrike">
                <a:solidFill>
                  <a:srgbClr val="ffffff"/>
                </a:solidFill>
                <a:latin typeface="Century Gothic"/>
              </a:rPr>
              <a:t>PBS: Public Broadcasting Service</a:t>
            </a:r>
            <a:r>
              <a:rPr b="0" lang="en-US" sz="1600" spc="-1" strike="noStrike">
                <a:solidFill>
                  <a:srgbClr val="ffffff"/>
                </a:solidFill>
                <a:latin typeface="Century Gothic"/>
              </a:rPr>
              <a:t>. Web. 22 Oct. 2010. &lt;http://www.pbs.org/empires/islam/index.html&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 </a:t>
            </a:r>
            <a:r>
              <a:rPr b="0" lang="en-US" sz="1600" spc="-1" strike="noStrike">
                <a:solidFill>
                  <a:srgbClr val="ffffff"/>
                </a:solidFill>
                <a:latin typeface="Century Gothic"/>
              </a:rPr>
              <a:t>"Islamic Beliefs &amp; History." </a:t>
            </a:r>
            <a:r>
              <a:rPr b="0" i="1" lang="en-US" sz="1600" spc="-1" strike="noStrike">
                <a:solidFill>
                  <a:srgbClr val="ffffff"/>
                </a:solidFill>
                <a:latin typeface="Century Gothic"/>
              </a:rPr>
              <a:t>Islam Voice</a:t>
            </a:r>
            <a:r>
              <a:rPr b="0" lang="en-US" sz="1600" spc="-1" strike="noStrike">
                <a:solidFill>
                  <a:srgbClr val="ffffff"/>
                </a:solidFill>
                <a:latin typeface="Century Gothic"/>
              </a:rPr>
              <a:t>. Web. 22 Oct. 2010. &lt;http://islam-voice.net/&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Feldman, Noah. "Islam: Governing Under Sharia." </a:t>
            </a:r>
            <a:r>
              <a:rPr b="0" i="1" lang="en-US" sz="1600" spc="-1" strike="noStrike">
                <a:solidFill>
                  <a:srgbClr val="ffffff"/>
                </a:solidFill>
                <a:latin typeface="Century Gothic"/>
              </a:rPr>
              <a:t>Council on Foreign Relations</a:t>
            </a:r>
            <a:r>
              <a:rPr b="0" lang="en-US" sz="1600" spc="-1" strike="noStrike">
                <a:solidFill>
                  <a:srgbClr val="ffffff"/>
                </a:solidFill>
                <a:latin typeface="Century Gothic"/>
              </a:rPr>
              <a:t>. Web. 22 Oct. 2010. &lt;http://www.cfr.org/publication/8034/islam.html#p3&g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entury Gothic"/>
              </a:rPr>
              <a:t>Duiker, William J., and Jackson J. Spielvogel. "Chapter 7 Islam and Byzantium." </a:t>
            </a:r>
            <a:r>
              <a:rPr b="0" i="1" lang="en-US" sz="1600" spc="-1" strike="noStrike">
                <a:solidFill>
                  <a:srgbClr val="ffffff"/>
                </a:solidFill>
                <a:latin typeface="Century Gothic"/>
              </a:rPr>
              <a:t>World History</a:t>
            </a:r>
            <a:r>
              <a:rPr b="0" lang="en-US" sz="1600" spc="-1" strike="noStrike">
                <a:solidFill>
                  <a:srgbClr val="ffffff"/>
                </a:solidFill>
                <a:latin typeface="Century Gothic"/>
              </a:rPr>
              <a:t>. Fourth ed. Belmont, CA: Wadsworth Group/ Thomson Learning, 2004. Print.</a:t>
            </a: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00"/>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entury Gothic"/>
            </a:endParaRPr>
          </a:p>
          <a:p>
            <a:pPr marL="372600" indent="-34056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a:p>
            <a:pPr marL="372600" indent="-340560">
              <a:spcBef>
                <a:spcPts val="4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Religious Structure</a:t>
            </a:r>
            <a:endParaRPr b="0" lang="en-US" sz="4600" spc="-1" strike="noStrike">
              <a:solidFill>
                <a:srgbClr val="ffffff"/>
              </a:solidFill>
              <a:latin typeface="Century Gothic"/>
            </a:endParaRPr>
          </a:p>
        </p:txBody>
      </p:sp>
      <p:sp>
        <p:nvSpPr>
          <p:cNvPr id="264" name=""/>
          <p:cNvSpPr txBox="1"/>
          <p:nvPr/>
        </p:nvSpPr>
        <p:spPr>
          <a:xfrm>
            <a:off x="468000" y="5084280"/>
            <a:ext cx="3251160" cy="57636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mam</a:t>
            </a:r>
            <a:endParaRPr b="0" lang="en-US" sz="3000" spc="-1" strike="noStrike">
              <a:solidFill>
                <a:srgbClr val="ffffff"/>
              </a:solidFill>
              <a:latin typeface="Century Gothic"/>
            </a:endParaRPr>
          </a:p>
        </p:txBody>
      </p:sp>
      <p:pic>
        <p:nvPicPr>
          <p:cNvPr id="265" name="Picture 5" descr="http://www.sacredsites.com/middle_east/saudi_arabia/images/great-mosque-500.jpg"/>
          <p:cNvPicPr/>
          <p:nvPr/>
        </p:nvPicPr>
        <p:blipFill>
          <a:blip r:embed="rId1"/>
          <a:stretch/>
        </p:blipFill>
        <p:spPr>
          <a:xfrm>
            <a:off x="5508720" y="1197000"/>
            <a:ext cx="3357360" cy="2236680"/>
          </a:xfrm>
          <a:prstGeom prst="rect">
            <a:avLst/>
          </a:prstGeom>
          <a:ln w="0">
            <a:noFill/>
          </a:ln>
        </p:spPr>
      </p:pic>
      <p:sp>
        <p:nvSpPr>
          <p:cNvPr id="266" name="Content Placeholder 2"/>
          <p:cNvSpPr/>
          <p:nvPr/>
        </p:nvSpPr>
        <p:spPr>
          <a:xfrm>
            <a:off x="5580000" y="3429000"/>
            <a:ext cx="3249720" cy="84780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Masjid al-Harem</a:t>
            </a:r>
            <a:endParaRPr b="0" lang="en-US" sz="2400" spc="-1" strike="noStrike">
              <a:solidFill>
                <a:srgbClr val="ffffff"/>
              </a:solidFill>
              <a:latin typeface="Tahoma"/>
            </a:endParaRPr>
          </a:p>
        </p:txBody>
      </p:sp>
      <p:pic>
        <p:nvPicPr>
          <p:cNvPr id="267" name="Picture 9" descr="http://www.conservapedia.com/images/0/06/Kaaba.jpg"/>
          <p:cNvPicPr/>
          <p:nvPr/>
        </p:nvPicPr>
        <p:blipFill>
          <a:blip r:embed="rId2"/>
          <a:srcRect l="19148" t="0" r="0" b="8768"/>
          <a:stretch/>
        </p:blipFill>
        <p:spPr>
          <a:xfrm>
            <a:off x="5477040" y="3933720"/>
            <a:ext cx="3342960" cy="2406600"/>
          </a:xfrm>
          <a:prstGeom prst="rect">
            <a:avLst/>
          </a:prstGeom>
          <a:ln w="0">
            <a:noFill/>
          </a:ln>
        </p:spPr>
      </p:pic>
      <p:pic>
        <p:nvPicPr>
          <p:cNvPr id="268" name="Diagram 9" descr=""/>
          <p:cNvPicPr/>
          <p:nvPr/>
        </p:nvPicPr>
        <p:blipFill>
          <a:blip r:embed="rId3"/>
          <a:stretch/>
        </p:blipFill>
        <p:spPr>
          <a:xfrm>
            <a:off x="633240" y="1262160"/>
            <a:ext cx="5187960" cy="3108240"/>
          </a:xfrm>
          <a:prstGeom prst="rect">
            <a:avLst/>
          </a:prstGeom>
          <a:ln w="0">
            <a:noFill/>
          </a:ln>
        </p:spPr>
      </p:pic>
      <p:sp>
        <p:nvSpPr>
          <p:cNvPr id="269" name="Freeform 10"/>
          <p:cNvSpPr/>
          <p:nvPr/>
        </p:nvSpPr>
        <p:spPr>
          <a:xfrm>
            <a:off x="395280" y="2492280"/>
            <a:ext cx="2905200" cy="1728720"/>
          </a:xfrm>
          <a:custGeom>
            <a:avLst/>
            <a:gdLst/>
            <a:ahLst/>
            <a:rect l="l" t="t" r="r" b="b"/>
            <a:pathLst>
              <a:path w="3795616" h="2774439">
                <a:moveTo>
                  <a:pt x="439162" y="346806"/>
                </a:moveTo>
                <a:cubicBezTo>
                  <a:pt x="878324" y="1"/>
                  <a:pt x="2776132" y="2"/>
                  <a:pt x="3262347" y="346807"/>
                </a:cubicBezTo>
                <a:cubicBezTo>
                  <a:pt x="3748562" y="693612"/>
                  <a:pt x="3795615" y="2080829"/>
                  <a:pt x="3356453" y="2427634"/>
                </a:cubicBezTo>
                <a:cubicBezTo>
                  <a:pt x="2917291" y="2774439"/>
                  <a:pt x="1113590" y="2774440"/>
                  <a:pt x="627375" y="2427635"/>
                </a:cubicBezTo>
                <a:cubicBezTo>
                  <a:pt x="141160" y="2080830"/>
                  <a:pt x="0" y="693611"/>
                  <a:pt x="439162" y="346806"/>
                </a:cubicBezTo>
                <a:close/>
              </a:path>
            </a:pathLst>
          </a:custGeom>
          <a:noFill/>
          <a:ln w="190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cxnSp>
        <p:nvCxnSpPr>
          <p:cNvPr id="270" name="Straight Arrow Connector 12"/>
          <p:cNvCxnSpPr/>
          <p:nvPr/>
        </p:nvCxnSpPr>
        <p:spPr>
          <a:xfrm flipH="1">
            <a:off x="899640" y="4076280"/>
            <a:ext cx="216720" cy="289440"/>
          </a:xfrm>
          <a:prstGeom prst="straightConnector1">
            <a:avLst/>
          </a:prstGeom>
          <a:ln w="9360">
            <a:solidFill>
              <a:srgbClr val="00b050"/>
            </a:solidFill>
            <a:miter/>
            <a:tailEnd len="med" type="arrow" w="med"/>
          </a:ln>
        </p:spPr>
      </p:cxnSp>
      <p:sp>
        <p:nvSpPr>
          <p:cNvPr id="271" name="TextBox 17"/>
          <p:cNvSpPr/>
          <p:nvPr/>
        </p:nvSpPr>
        <p:spPr>
          <a:xfrm>
            <a:off x="468360" y="4437000"/>
            <a:ext cx="1224000" cy="64260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dh’hab</a:t>
            </a:r>
            <a:endParaRPr b="0" lang="en-US" sz="1800" spc="-1" strike="noStrike">
              <a:solidFill>
                <a:srgbClr val="ffffff"/>
              </a:solidFill>
              <a:latin typeface="Tahoma"/>
            </a:endParaRPr>
          </a:p>
        </p:txBody>
      </p:sp>
      <p:pic>
        <p:nvPicPr>
          <p:cNvPr id="272" name="Picture 7" descr="http://upload.wikimedia.org/wikipedia/commons/1/1e/Sultan_Ahmed_Mosque.jpg"/>
          <p:cNvPicPr/>
          <p:nvPr/>
        </p:nvPicPr>
        <p:blipFill>
          <a:blip r:embed="rId4"/>
          <a:stretch/>
        </p:blipFill>
        <p:spPr>
          <a:xfrm>
            <a:off x="2484360" y="4149720"/>
            <a:ext cx="2519280" cy="2259000"/>
          </a:xfrm>
          <a:prstGeom prst="rect">
            <a:avLst/>
          </a:prstGeom>
          <a:ln w="0">
            <a:noFill/>
          </a:ln>
        </p:spPr>
      </p:pic>
      <p:sp>
        <p:nvSpPr>
          <p:cNvPr id="273" name="Content Placeholder 2"/>
          <p:cNvSpPr/>
          <p:nvPr/>
        </p:nvSpPr>
        <p:spPr>
          <a:xfrm>
            <a:off x="1835280" y="6381720"/>
            <a:ext cx="6265800" cy="47628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Sultan Ahmed Mosque (Blue Mosqu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Contributers</a:t>
            </a:r>
            <a:endParaRPr b="0" lang="en-US" sz="4600" spc="-1" strike="noStrike">
              <a:solidFill>
                <a:srgbClr val="ffffff"/>
              </a:solidFill>
              <a:latin typeface="Century Gothic"/>
            </a:endParaRPr>
          </a:p>
        </p:txBody>
      </p:sp>
      <p:sp>
        <p:nvSpPr>
          <p:cNvPr id="275" name=""/>
          <p:cNvSpPr txBox="1"/>
          <p:nvPr/>
        </p:nvSpPr>
        <p:spPr>
          <a:xfrm>
            <a:off x="-360" y="1341360"/>
            <a:ext cx="5148360" cy="14400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uhammed</a:t>
            </a:r>
            <a:endParaRPr b="0" lang="en-US" sz="3000" spc="-1" strike="noStrike">
              <a:solidFill>
                <a:srgbClr val="ffffff"/>
              </a:solidFill>
              <a:latin typeface="Century Gothic"/>
            </a:endParaRPr>
          </a:p>
        </p:txBody>
      </p:sp>
      <p:pic>
        <p:nvPicPr>
          <p:cNvPr id="276" name="Picture 1" descr="http://web.uvic.ca/~rpn/files/pics/line.jpg"/>
          <p:cNvPicPr/>
          <p:nvPr/>
        </p:nvPicPr>
        <p:blipFill>
          <a:blip r:embed="rId1"/>
          <a:srcRect l="0" t="21053" r="0" b="0"/>
          <a:stretch/>
        </p:blipFill>
        <p:spPr>
          <a:xfrm>
            <a:off x="7053120" y="260280"/>
            <a:ext cx="1911600" cy="6453360"/>
          </a:xfrm>
          <a:prstGeom prst="rect">
            <a:avLst/>
          </a:prstGeom>
          <a:ln w="0">
            <a:noFill/>
          </a:ln>
        </p:spPr>
      </p:pic>
      <p:pic>
        <p:nvPicPr>
          <p:cNvPr id="277" name="Picture 4" descr="http://classes.colgate.edu/osafi/relg328/Muhammad%20calligraphy%20by%20Muhammad%20Zakariya.jpg"/>
          <p:cNvPicPr/>
          <p:nvPr/>
        </p:nvPicPr>
        <p:blipFill>
          <a:blip r:embed="rId2"/>
          <a:stretch/>
        </p:blipFill>
        <p:spPr>
          <a:xfrm>
            <a:off x="395280" y="2421000"/>
            <a:ext cx="3745080" cy="3867120"/>
          </a:xfrm>
          <a:prstGeom prst="rect">
            <a:avLst/>
          </a:prstGeom>
          <a:ln w="0">
            <a:noFill/>
          </a:ln>
        </p:spPr>
      </p:pic>
      <p:pic>
        <p:nvPicPr>
          <p:cNvPr id="278" name="Picture 7" descr="File:Mohammed receiving revelation from the angel Gabriel.jpg"/>
          <p:cNvPicPr/>
          <p:nvPr/>
        </p:nvPicPr>
        <p:blipFill>
          <a:blip r:embed="rId3"/>
          <a:stretch/>
        </p:blipFill>
        <p:spPr>
          <a:xfrm>
            <a:off x="4356000" y="3716280"/>
            <a:ext cx="2870280" cy="2160720"/>
          </a:xfrm>
          <a:prstGeom prst="rect">
            <a:avLst/>
          </a:prstGeom>
          <a:ln w="0">
            <a:noFill/>
          </a:ln>
        </p:spPr>
      </p:pic>
      <p:sp>
        <p:nvSpPr>
          <p:cNvPr id="279" name="Content Placeholder 2"/>
          <p:cNvSpPr/>
          <p:nvPr/>
        </p:nvSpPr>
        <p:spPr>
          <a:xfrm>
            <a:off x="2411280" y="1413000"/>
            <a:ext cx="5148360" cy="647640"/>
          </a:xfrm>
          <a:prstGeom prst="rect">
            <a:avLst/>
          </a:prstGeom>
          <a:noFill/>
          <a:ln w="0">
            <a:noFill/>
          </a:ln>
        </p:spPr>
        <p:style>
          <a:lnRef idx="0"/>
          <a:fillRef idx="0"/>
          <a:effectRef idx="0"/>
          <a:fontRef idx="minor"/>
        </p:style>
        <p:txBody>
          <a:bodyPr lIns="90000" rIns="90000" tIns="46800" bIns="46800" anchor="t">
            <a:noAutofit/>
          </a:bodyPr>
          <a:p>
            <a:pPr lvl="1" marL="876240" indent="-382680">
              <a:lnSpc>
                <a:spcPct val="100000"/>
              </a:lnSpc>
              <a:spcBef>
                <a:spcPts val="649"/>
              </a:spcBef>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 570 – June 8</a:t>
            </a:r>
            <a:r>
              <a:rPr b="0" lang="en-US" sz="2600" spc="-1" strike="noStrike" baseline="30000">
                <a:solidFill>
                  <a:srgbClr val="ffffff"/>
                </a:solidFill>
                <a:latin typeface="Century Gothic"/>
              </a:rPr>
              <a:t>th</a:t>
            </a:r>
            <a:r>
              <a:rPr b="0" lang="en-US" sz="2600" spc="-1" strike="noStrike">
                <a:solidFill>
                  <a:srgbClr val="ffffff"/>
                </a:solidFill>
                <a:latin typeface="Century Gothic"/>
              </a:rPr>
              <a:t> 632</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5 Pillars of Islam</a:t>
            </a:r>
            <a:endParaRPr b="0" lang="en-US" sz="4600" spc="-1" strike="noStrike">
              <a:solidFill>
                <a:srgbClr val="ffffff"/>
              </a:solidFill>
              <a:latin typeface="Century Gothic"/>
            </a:endParaRPr>
          </a:p>
        </p:txBody>
      </p:sp>
      <p:sp>
        <p:nvSpPr>
          <p:cNvPr id="281" name=""/>
          <p:cNvSpPr txBox="1"/>
          <p:nvPr/>
        </p:nvSpPr>
        <p:spPr>
          <a:xfrm>
            <a:off x="468000" y="1341360"/>
            <a:ext cx="397044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hahada - Belief  </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alat - Worship</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Zakat - Almsgiv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Siyam - Fast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Hajj - Pilgrimmage</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82" name="Picture 5" descr="File:Flag of Saudi Arabia.svg"/>
          <p:cNvPicPr/>
          <p:nvPr/>
        </p:nvPicPr>
        <p:blipFill>
          <a:blip r:embed="rId1"/>
          <a:stretch/>
        </p:blipFill>
        <p:spPr>
          <a:xfrm>
            <a:off x="4932360" y="1413000"/>
            <a:ext cx="3203640" cy="2136600"/>
          </a:xfrm>
          <a:prstGeom prst="rect">
            <a:avLst/>
          </a:prstGeom>
          <a:ln w="0">
            <a:noFill/>
          </a:ln>
        </p:spPr>
      </p:pic>
      <p:pic>
        <p:nvPicPr>
          <p:cNvPr id="283" name="Picture 7" descr="File:Amellie - Stoning of the devil 2006 Hajj.jpg"/>
          <p:cNvPicPr/>
          <p:nvPr/>
        </p:nvPicPr>
        <p:blipFill>
          <a:blip r:embed="rId2"/>
          <a:srcRect l="0" t="25814" r="0" b="0"/>
          <a:stretch/>
        </p:blipFill>
        <p:spPr>
          <a:xfrm>
            <a:off x="2340000" y="4221000"/>
            <a:ext cx="4464000" cy="24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Salat-Prayer</a:t>
            </a:r>
            <a:endParaRPr b="0" lang="en-US" sz="4600" spc="-1" strike="noStrike">
              <a:solidFill>
                <a:srgbClr val="ffffff"/>
              </a:solidFill>
              <a:latin typeface="Century Gothic"/>
            </a:endParaRPr>
          </a:p>
        </p:txBody>
      </p:sp>
      <p:sp>
        <p:nvSpPr>
          <p:cNvPr id="285" name=""/>
          <p:cNvSpPr txBox="1"/>
          <p:nvPr/>
        </p:nvSpPr>
        <p:spPr>
          <a:xfrm>
            <a:off x="468360" y="1557360"/>
            <a:ext cx="3456000" cy="7920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entury Gothic"/>
              </a:rPr>
              <a:t>Islamic Prayer</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86" name="Picture 5" descr=""/>
          <p:cNvPicPr/>
          <p:nvPr/>
        </p:nvPicPr>
        <p:blipFill>
          <a:blip r:embed="rId1"/>
          <a:srcRect l="11080" t="39001" r="56081" b="33440"/>
          <a:stretch/>
        </p:blipFill>
        <p:spPr>
          <a:xfrm>
            <a:off x="1996920" y="2492280"/>
            <a:ext cx="5150160" cy="32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Holidays</a:t>
            </a:r>
            <a:endParaRPr b="0" lang="en-US" sz="4600" spc="-1" strike="noStrike">
              <a:solidFill>
                <a:srgbClr val="ffffff"/>
              </a:solidFill>
              <a:latin typeface="Century Gothic"/>
            </a:endParaRPr>
          </a:p>
        </p:txBody>
      </p:sp>
      <p:sp>
        <p:nvSpPr>
          <p:cNvPr id="288"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id al-Fitr – Festival of Fast-Breaking</a:t>
            </a: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id al-Adha – Festival of Sacrifice</a:t>
            </a:r>
            <a:endParaRPr b="0" lang="en-US" sz="3000" spc="-1" strike="noStrike">
              <a:solidFill>
                <a:srgbClr val="ffffff"/>
              </a:solidFill>
              <a:latin typeface="Century Gothic"/>
            </a:endParaRPr>
          </a:p>
        </p:txBody>
      </p:sp>
      <p:pic>
        <p:nvPicPr>
          <p:cNvPr id="289" name="Picture 4" descr="http://www.awinsjclarke.com/wp-content/uploads/eid-mubarak1.gif"/>
          <p:cNvPicPr/>
          <p:nvPr/>
        </p:nvPicPr>
        <p:blipFill>
          <a:blip r:embed="rId1"/>
          <a:stretch/>
        </p:blipFill>
        <p:spPr>
          <a:xfrm>
            <a:off x="1835280" y="3716280"/>
            <a:ext cx="4829040" cy="283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Political Influence</a:t>
            </a:r>
            <a:endParaRPr b="0" lang="en-US" sz="4600" spc="-1" strike="noStrike">
              <a:solidFill>
                <a:srgbClr val="ffffff"/>
              </a:solidFill>
              <a:latin typeface="Century Gothic"/>
            </a:endParaRPr>
          </a:p>
        </p:txBody>
      </p:sp>
      <p:sp>
        <p:nvSpPr>
          <p:cNvPr id="291" name=""/>
          <p:cNvSpPr txBox="1"/>
          <p:nvPr/>
        </p:nvSpPr>
        <p:spPr>
          <a:xfrm>
            <a:off x="457200" y="1600200"/>
            <a:ext cx="2674800" cy="820800"/>
          </a:xfrm>
          <a:prstGeom prst="rect">
            <a:avLst/>
          </a:prstGeom>
          <a:noFill/>
          <a:ln w="0">
            <a:noFill/>
          </a:ln>
        </p:spPr>
        <p:txBody>
          <a:bodyPr anchor="t">
            <a:normAutofit/>
          </a:bodyPr>
          <a:p>
            <a:pPr marL="419040" indent="-38268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hari’a</a:t>
            </a:r>
            <a:endParaRPr b="0" lang="en-US" sz="3000" spc="-1" strike="noStrike">
              <a:solidFill>
                <a:srgbClr val="ffffff"/>
              </a:solidFill>
              <a:latin typeface="Century Gothic"/>
            </a:endParaRPr>
          </a:p>
        </p:txBody>
      </p:sp>
      <p:pic>
        <p:nvPicPr>
          <p:cNvPr id="292" name="Picture 2" descr="http://upload.wikimedia.org/wikipedia/commons/b/b2/Countries_with_Sharia_rule.png"/>
          <p:cNvPicPr/>
          <p:nvPr/>
        </p:nvPicPr>
        <p:blipFill>
          <a:blip r:embed="rId1"/>
          <a:stretch/>
        </p:blipFill>
        <p:spPr>
          <a:xfrm>
            <a:off x="0" y="2482920"/>
            <a:ext cx="9144000" cy="401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entury Gothic"/>
              </a:rPr>
              <a:t>Literature</a:t>
            </a:r>
            <a:endParaRPr b="0" lang="en-US" sz="4600" spc="-1" strike="noStrike">
              <a:solidFill>
                <a:srgbClr val="ffffff"/>
              </a:solidFill>
              <a:latin typeface="Century Gothic"/>
            </a:endParaRPr>
          </a:p>
        </p:txBody>
      </p:sp>
      <p:sp>
        <p:nvSpPr>
          <p:cNvPr id="294" name=""/>
          <p:cNvSpPr txBox="1"/>
          <p:nvPr/>
        </p:nvSpPr>
        <p:spPr>
          <a:xfrm>
            <a:off x="250920" y="1483920"/>
            <a:ext cx="3960720" cy="2521080"/>
          </a:xfrm>
          <a:prstGeom prst="rect">
            <a:avLst/>
          </a:prstGeom>
          <a:noFill/>
          <a:ln w="0">
            <a:noFill/>
          </a:ln>
        </p:spPr>
        <p:txBody>
          <a:bodyPr anchor="t">
            <a:normAutofit fontScale="83000"/>
          </a:bodyPr>
          <a:p>
            <a:pPr marL="347760" indent="-31752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Qur’an</a:t>
            </a:r>
            <a:endParaRPr b="0" lang="en-US" sz="30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t>
            </a:r>
            <a:r>
              <a:rPr b="0" lang="en-US" sz="2600" spc="-1" strike="noStrike">
                <a:solidFill>
                  <a:srgbClr val="ffffff"/>
                </a:solidFill>
                <a:latin typeface="Century Gothic"/>
              </a:rPr>
              <a:t>The Recitation”</a:t>
            </a:r>
            <a:endParaRPr b="0" lang="en-US" sz="26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Book of Islamic revelation.</a:t>
            </a:r>
            <a:endParaRPr b="0" lang="en-US" sz="2600" spc="-1" strike="noStrike">
              <a:solidFill>
                <a:srgbClr val="ffffff"/>
              </a:solidFill>
              <a:latin typeface="Century Gothic"/>
            </a:endParaRPr>
          </a:p>
          <a:p>
            <a:pPr lvl="1" marL="599040" indent="-226440">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Revealed to Muhammed from 610 C.E. – 632 C.E.</a:t>
            </a:r>
            <a:endParaRPr b="0" lang="en-US" sz="2600" spc="-1" strike="noStrike">
              <a:solidFill>
                <a:srgbClr val="ffffff"/>
              </a:solidFill>
              <a:latin typeface="Century Gothic"/>
            </a:endParaRPr>
          </a:p>
          <a:p>
            <a:pPr lvl="1" marL="599040" indent="-226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347760" indent="-317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347760" indent="-317520">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pic>
        <p:nvPicPr>
          <p:cNvPr id="295" name="Picture 5" descr="http://www.answering-christianity.com/quran/noble_quran_mss1.jpg"/>
          <p:cNvPicPr/>
          <p:nvPr/>
        </p:nvPicPr>
        <p:blipFill>
          <a:blip r:embed="rId1"/>
          <a:srcRect l="0" t="7015" r="0" b="0"/>
          <a:stretch/>
        </p:blipFill>
        <p:spPr>
          <a:xfrm>
            <a:off x="4067280" y="1557360"/>
            <a:ext cx="4392360" cy="2838600"/>
          </a:xfrm>
          <a:prstGeom prst="rect">
            <a:avLst/>
          </a:prstGeom>
          <a:ln w="0">
            <a:noFill/>
          </a:ln>
        </p:spPr>
      </p:pic>
      <p:sp>
        <p:nvSpPr>
          <p:cNvPr id="296" name="Content Placeholder 2"/>
          <p:cNvSpPr/>
          <p:nvPr/>
        </p:nvSpPr>
        <p:spPr>
          <a:xfrm>
            <a:off x="384120" y="4770360"/>
            <a:ext cx="6059520" cy="2087640"/>
          </a:xfrm>
          <a:prstGeom prst="rect">
            <a:avLst/>
          </a:prstGeom>
          <a:noFill/>
          <a:ln w="0">
            <a:noFill/>
          </a:ln>
        </p:spPr>
        <p:style>
          <a:lnRef idx="0"/>
          <a:fillRef idx="0"/>
          <a:effectRef idx="0"/>
          <a:fontRef idx="minor"/>
        </p:style>
        <p:txBody>
          <a:bodyPr lIns="90000" rIns="90000" tIns="46800" bIns="46800" anchor="t">
            <a:noAutofit/>
          </a:bodyPr>
          <a:p>
            <a:pPr marL="419040" indent="-382680">
              <a:lnSpc>
                <a:spcPct val="100000"/>
              </a:lnSpc>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adith</a:t>
            </a:r>
            <a:endParaRPr b="0" lang="en-US" sz="30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t>
            </a:r>
            <a:r>
              <a:rPr b="0" lang="en-US" sz="2600" spc="-1" strike="noStrike">
                <a:solidFill>
                  <a:srgbClr val="ffffff"/>
                </a:solidFill>
                <a:latin typeface="Century Gothic"/>
              </a:rPr>
              <a:t>Narrative”</a:t>
            </a:r>
            <a:endParaRPr b="0" lang="en-US" sz="26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Contains words and deeds of the prophet Muhammed</a:t>
            </a:r>
            <a:endParaRPr b="0" lang="en-US" sz="2600" spc="-1" strike="noStrike">
              <a:solidFill>
                <a:srgbClr val="ffffff"/>
              </a:solidFill>
              <a:latin typeface="Tahoma"/>
            </a:endParaRPr>
          </a:p>
          <a:p>
            <a:pPr lvl="1" marL="722160" indent="-272880">
              <a:lnSpc>
                <a:spcPct val="100000"/>
              </a:lnSpc>
              <a:spcBef>
                <a:spcPts val="649"/>
              </a:spcBef>
              <a:buClr>
                <a:srgbClr val="f0ad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marL="419040" indent="-382680">
              <a:lnSpc>
                <a:spcPct val="100000"/>
              </a:lnSpc>
              <a:spcBef>
                <a:spcPts val="75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4" descr="http://upload.wikimedia.org/wikipedia/en/archive/6/6c/20080128161714!Islam_percentage_by_country.png"/>
          <p:cNvPicPr/>
          <p:nvPr/>
        </p:nvPicPr>
        <p:blipFill>
          <a:blip r:embed="rId1"/>
          <a:srcRect l="0" t="0" r="7786" b="2227"/>
          <a:stretch/>
        </p:blipFill>
        <p:spPr>
          <a:xfrm>
            <a:off x="0" y="1160640"/>
            <a:ext cx="9153360" cy="45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8:52:41Z</dcterms:created>
  <dc:creator>Profile</dc:creator>
  <dc:description/>
  <dc:language>en-US</dc:language>
  <cp:lastModifiedBy>BBAG</cp:lastModifiedBy>
  <dcterms:modified xsi:type="dcterms:W3CDTF">2010-11-04T03:01:31Z</dcterms:modified>
  <cp:revision>99</cp:revision>
  <dc:subject/>
  <dc:title>Islam</dc:title>
</cp:coreProperties>
</file>